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230-3FB4-41D6-A126-095546B6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B91E-AAF5-473D-8976-EDB0B3EF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D8C-7489-4341-BD10-0295A2A1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38D-D578-4A5E-815E-82F8E0D9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DF80-0786-4A43-BAB5-629A6007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F553-87DB-48A0-8286-1B5924EC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D1A1-D58D-4B61-85B0-EE8561DD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5ABB-2A0B-43B3-AFCD-52F3F9A7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48DA-3F83-4557-A8EA-37A5C61E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8C77-CB8C-4A92-BB3B-5032ABA2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0DF1-39EF-456F-A2E6-6E9BBF3E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A51-80F9-4FF6-B954-A4FDC75E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3CD0-FFE6-4A9F-86DD-B7819312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FB8C-F675-400A-8ADD-9064773A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7F55-BC4B-4B0E-824C-154AB347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5D6B-C741-474F-9D0D-1CAA8345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72E2-D6D9-41BF-A786-C6F8CE27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D465-E2ED-4F31-B76A-925DA901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FB6F-628A-483B-B746-0F26CD2F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8F8D-25DA-4A2F-90AD-47A59B40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8AE-F171-44EF-B75A-6A1892DD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7473-6523-4493-A25C-E0178CB7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0D81-428C-4703-B77F-E0879579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E7FD-C58E-4BBA-90F2-7A63D56B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EDBF-7178-420D-ACF3-426352128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4846-1735-4B12-98A5-B523C6CD2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.2: The Quadratic Formul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.3: Solving by Graph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ember 4, 200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aphing parabola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axis of symmetry (x= -b/2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vertex (-b/2a, plug in x value to find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wo symmetric points (symmetric points are x coordinates equally distant from the axis of symme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one of the symmetric points to find the y coordinate of both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x and y coordinates for the symmetric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smooth cu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y graphing the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0x+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x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4340520" cy="4353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735 #22-28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736 #36-50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756-757 #20-40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quadratic equations by using the quadratic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number and the nature of the solutions by using the discrimin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xis of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a parab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quadratic formul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 quadratic form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x+c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adratic formula can be used to solve this type of quadratic.  It 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olves for the x inter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14600" y="4114800"/>
            <a:ext cx="5029200" cy="1265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ing the quadratic formul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e quadratic equation is in standard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values for a, b, and c.  They are numeric (no variables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e a, b, and c into the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4x+33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x=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9880" y="304920"/>
            <a:ext cx="5029200" cy="1265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Discrimina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criminant is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ac (the portion of the quadratic formula under the radic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criminant deters the number and type of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ac &lt; 0, then there are no real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ac = 0, then there is one real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ac &gt; 0, then there are two real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the number and types of solu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0x-5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x+12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l about parabola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&gt; 0, the parabolas opens up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&lt; 0, the parabola opens down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rtex is the highest or lowest point.  It’s x coordinate equals –b/2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lso the axis of symme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g the x value into the equation to the find y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819920" y="685800"/>
            <a:ext cx="1324080" cy="1600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819920" y="2590920"/>
            <a:ext cx="132408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the axis of symmetry and the vertex of eac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0x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-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2x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8:52:15Z</dcterms:created>
  <dc:creator>nuhs</dc:creator>
  <dc:description/>
  <dc:language>en-US</dc:language>
  <cp:lastModifiedBy>nuhs</cp:lastModifiedBy>
  <dcterms:modified xsi:type="dcterms:W3CDTF">2007-12-04T21:41:42Z</dcterms:modified>
  <cp:revision>4</cp:revision>
  <dc:subject/>
  <dc:title>11.2: The Quadratic Formula 11.3: Solving by Graphing</dc:title>
</cp:coreProperties>
</file>